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A80-E75F-4B8B-BAFD-693C08F3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95C-8FC3-44BB-AF1F-82A0936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912-B92D-4877-8BC7-A7A3AE31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F12-7CCB-4249-9D6E-93755448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B167-F730-4950-A082-7418EEEB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D373-A065-4836-B93A-E725C29F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CDCF-BDBB-4473-B05E-D730446C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F7C2-6836-4FE0-8070-1060F22C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C1B5-45E4-4D58-9EA2-7BAEC0E3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2423-7B2B-4205-AF63-DF83DB1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26B7-6997-4BAD-B1C0-64524360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514-017D-43D6-99E7-A1006FAE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A109-4D5D-457C-95CB-5B43D92D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0B71-4D39-4C37-BCCC-E883DE45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FC48-6BFE-421D-ABB5-54F3DD3D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5D1E-3705-4157-8671-36590571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F383-8BA6-464C-9CFF-3E6BC049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5CE9-19BA-42DE-8A86-EEF12F48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63FD-40E5-47CA-8772-E1F4DA7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5F01-79F9-48A4-904C-C8361583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9DB9-283E-4EED-89E4-67978E58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D293-7CFA-4850-B3EF-1DF079A3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43B-1257-49DA-BD42-99C19714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A1B1-35D4-4FBA-B810-D54B215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69BE-2EF5-4B32-8402-3296D341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A3B3-9ED2-4E2C-82B3-F2A41D21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D24A-A91E-4C06-B039-2631A44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BE55-46BC-4D6A-8362-16BA628A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91EA-9017-4DB2-B58C-0B18CCFF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E0E1-D057-4C87-A387-10CF5960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AF0A6-D7CC-4637-9900-4B6654DF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4507-2BBF-44D5-A244-EFA2D73F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66620-115A-4938-A048-BB66B6E1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775-7020-431D-9A98-578E8950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1154-E994-4A65-A1C7-197834D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9DCC-C90B-4D12-8DA0-2ECC7F42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BDD39-6017-440A-BBD1-B54AFC94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237F-5648-4E53-BCC9-D156FDDD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3E1F-5F6F-4532-8868-1872651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5E64-84C0-4989-BE36-C1C2C0CF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FFAC4-70C3-4473-9954-6958DC70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49D38-8F69-4473-9D58-20B0B13F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50AA-70F0-49C4-B006-033F4A46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6BFF3-9EC1-43DC-8D3E-29E91F00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11B-8E11-4369-AE48-F3365FAE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EEA92-AD8B-4F87-9A18-300C59BD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DF3A5-117B-4F7B-93FC-66FD20B2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0A2AF-DB66-42DF-AAF2-1DDE425A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4DCD-43B1-496E-B6E8-3A5DE3B2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76193-8023-44ED-8452-223631BF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0F2B-A6FD-4748-ACB4-40BF440B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C822-E6DB-49DB-B6DF-9CB5060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8A67B-A571-4A53-84D3-83432C97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1DF1-869C-436D-8742-24C6D1E9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4A8E-B9E9-4C15-A0BB-F20289B9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B96-BE9C-4C30-A779-25957169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D9519-19BE-4BFB-B0D3-DE9D08D0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2CA53-59E6-456E-8C41-50E21346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10D9-0B47-4CE1-AAB0-6C4AD952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F2FD8-8FF5-4A30-8FD8-809FD04F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A53D-F4EA-4008-93AF-9332B25A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86A2-AADB-47AA-9E4D-C4A82A7F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B3B9-9FFA-4D24-A32A-7AFAB642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6FE9-8BFE-4226-84B2-42858C2D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A0ED9-BE1C-4EA3-BBC6-A7AE22C8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46F6A-524B-4E1E-A27E-2E95322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AE3-DB9A-4037-A745-32991EB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56F2-9B16-456D-9143-124F7CB3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D33F1-329F-4A1A-9B2B-336E19BF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D908F-48FD-487C-A285-CB9D0970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E79-4695-442B-9061-7878027A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BF3-4C6D-4A83-A785-208DB20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428-7E43-42D3-890F-4A4B5BA419C3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C261-50C4-4F19-BA4C-E3C9754468DD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EBA1-9E5F-406E-AE78-CC4CD3BBA38E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7B20-C8D9-4492-941C-96FE32A2A29D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EBDB-1552-4F6C-9621-F60BA6FB4BBE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0631-75B7-4BB1-9042-16E81783FB77}" type="slidenum">
              <a:rPr b="0" lang="en-PH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384120" y="298440"/>
            <a:ext cx="7705800" cy="115884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 2" descr=""/>
          <p:cNvPicPr/>
          <p:nvPr/>
        </p:nvPicPr>
        <p:blipFill>
          <a:blip r:embed="rId2"/>
          <a:stretch/>
        </p:blipFill>
        <p:spPr>
          <a:xfrm>
            <a:off x="603360" y="1133640"/>
            <a:ext cx="8089920" cy="5578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600" spc="-1" strike="noStrike">
                <a:solidFill>
                  <a:srgbClr val="ffffff"/>
                </a:solidFill>
                <a:latin typeface="Franklin Gothic Book"/>
              </a:rPr>
              <a:t>WHY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ff"/>
                </a:solidFill>
                <a:latin typeface="Arial"/>
              </a:rPr>
              <a:t>Educational media is the core since it is more specific than the other terms. It refers to the books, magazines, newspapers, radio, TV, and interne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ff"/>
                </a:solidFill>
                <a:latin typeface="Arial"/>
              </a:rPr>
              <a:t>Technological integration is the use of learning technologies to introduce, reinforce, supplement, and extend skil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ff"/>
                </a:solidFill>
                <a:latin typeface="Arial"/>
              </a:rPr>
              <a:t>Instructional technology is a systematic way of designing, carrying out, and evaluating the total process of learning and teaching in terms of specific objectiv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ff"/>
                </a:solidFill>
                <a:latin typeface="Arial"/>
              </a:rPr>
              <a:t>Technology in Education includes the application to food, health, finance, scheduling, grade, reporting, and other processes which support education within institu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3:06:22Z</dcterms:created>
  <dc:creator>Guest</dc:creator>
  <dc:description/>
  <dc:language>en-US</dc:language>
  <cp:lastModifiedBy>windee morta</cp:lastModifiedBy>
  <dcterms:modified xsi:type="dcterms:W3CDTF">2012-07-19T10:36:31Z</dcterms:modified>
  <cp:revision>7</cp:revision>
  <dc:subject/>
  <dc:title>Slide 1</dc:title>
</cp:coreProperties>
</file>